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D34-EE12-4042-89E5-65A4099A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EBD-A3FE-45BA-9F3C-49524FD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164-6222-4E99-A240-FA3D2B0B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724-109E-4E39-B70B-89808AAF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E4C6-F4D7-4F36-A0E8-DD8B82F5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9F2-1556-4E0E-AC81-8AF420B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B7D6-DA51-44B0-A052-4EE99A72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6BAA-6B8D-439E-B6BE-8C7D6863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A64B-666C-4F4F-9EEC-B6DB1C4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3C2-3B7E-4B47-9AB3-A54769E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3356-212F-4928-8298-6F90F8E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D40-BE11-483F-9C2C-6638176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CA5A-96D7-42D2-93CA-C3F648C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FD0-0B12-4321-9A0B-0EC21A6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90C-E254-48AF-87A0-0D7A1604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9518-E819-4871-B162-ED2EA32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11A-ED97-4191-B7F5-8841855A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948-7E71-4DFC-A710-080BA24F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52B-4F82-4923-9551-DBB07552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882-0A05-4606-B8BC-05103643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D09-EAB3-464F-A049-855B33E8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91E-8293-4CA9-B8EC-1935279D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107-2D08-4BD9-8A7D-9A3272B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B16-433F-4C2B-B0E8-901F0B4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5FC-6466-422E-97CE-0D2D5020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E53-3319-414B-A610-8C28F2B49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234759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HH00446_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10" descr="NA00002_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SO00085_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2" descr="HH02192_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HH00446_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Picture 6" descr="SO00085_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NA00002_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HH02192_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HH00446_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DD00864_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9" descr="SO00085_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NA00002_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HH02192_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Owner</cp:lastModifiedBy>
  <dcterms:modified xsi:type="dcterms:W3CDTF">2013-04-23T09:50:42Z</dcterms:modified>
  <cp:revision>8</cp:revision>
  <dc:subject/>
  <dc:title>PLANTS</dc:title>
</cp:coreProperties>
</file>